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F682-D3EE-41B9-8686-5B89F999D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C7DA-A119-4D2F-8C58-8FAC989C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7499-967E-4558-8681-A90EEB71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FB3F-2667-4AA2-B10F-1FC384FFB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065E-4D06-4537-9BC2-D38E8E5E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1605-B887-4942-9D39-4D2FD5B1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00F3-8786-46C2-8B63-4B92FABD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1A0A-6F4C-497A-AC19-81BA7D0B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5B8A-E9BA-422C-846F-B9A4E211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F8B6-CA68-4DB8-9AA8-506FE427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144F-0EEE-47F1-9DDE-9D06FA3C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7C9E-04D5-4DB0-86A7-A24BF7CD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35D3-80FF-440C-B846-DFB04A4E6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Exercise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Work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ilent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earn 5 class poi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 Extra credit from yesterday on corner of de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2552760"/>
            <a:ext cx="3020760" cy="4305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" y="198108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LETE THE  QUESTIONS ON YOUR CLASS HANDOU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267080" y="3333600"/>
            <a:ext cx="44578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920" y="373392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Exercise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Work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ilent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earn 5 class poi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 Extra credit from yesterday on corner of de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1007640"/>
          </a:xfrm>
          <a:prstGeom prst="rect">
            <a:avLst/>
          </a:prstGeom>
          <a:noFill/>
          <a:ln w="22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LETE THE  QUESTIONS ON YOUR CLASS HANDOU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Exercise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Work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ilent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earn 5 class point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752480"/>
            <a:ext cx="8381880" cy="4224600"/>
          </a:xfrm>
          <a:prstGeom prst="rect">
            <a:avLst/>
          </a:prstGeom>
          <a:noFill/>
          <a:ln w="22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n your own paper: 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e article that we read yesterday claimed that rap and hip hop lead to inappropriate &amp; unhealthy boy/girl interactions and relationship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 your opinion, what OTHER things contribute to unhealthy/inappropriate interactions?  (List them.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Exercise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Work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ilent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earn 5 class poi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 HW on de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938480"/>
          </a:xfrm>
          <a:prstGeom prst="rect">
            <a:avLst/>
          </a:prstGeom>
          <a:noFill/>
          <a:ln w="22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rite down the single most SHOCKING observation from your lo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(2) Why did this event stick out to you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(3)  Write down your overall thoughts on keeping this log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057400"/>
          </a:xfrm>
          <a:prstGeom prst="rect">
            <a:avLst/>
          </a:prstGeom>
          <a:noFill/>
          <a:ln w="25560">
            <a:solidFill>
              <a:srgbClr val="0099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agine that you are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 newspaper article, like the one we read Monday. 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title is: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“Sexual Harassment at Southeast: Is it really a problem?”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first paragraph(s) of this essay.  Your introduction should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 the reader’s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ince the reader to keep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the reader for the rest of the article by providing necessary background information (on sexual harassment and Southe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your opinion/stance 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Exercise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Work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ilent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earn 5 class poi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 HW on de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381880" cy="3310920"/>
          </a:xfrm>
          <a:prstGeom prst="rect">
            <a:avLst/>
          </a:prstGeom>
          <a:noFill/>
          <a:ln w="22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e have been defining the issue of sexual harassment and discussing its causes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 your opinion, what are a few solutions to this problem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, songs are like tatto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know I’ve been to sea befo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wn and anchor 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let me sail awa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y blue, here is a song for you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k on a p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neath the sk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mpty space to fill 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there are so many sinking no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’ve got to keep think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make it thru these wav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id, booze, and as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les, guns, and gras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laughs, lots of laugh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body ‘s saying that hells the hippest way to g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I don’t think s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’m going to take a look around it th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, I love you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, here is a shell for you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ide you’ll hear a si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oggy lullab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your song from 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3:26:04Z</dcterms:created>
  <dc:creator>Carolynn</dc:creator>
  <dc:description/>
  <dc:language>en-US</dc:language>
  <cp:lastModifiedBy>Carolynn</cp:lastModifiedBy>
  <dcterms:modified xsi:type="dcterms:W3CDTF">2010-03-22T20:47:00Z</dcterms:modified>
  <cp:revision>5</cp:revision>
  <dc:subject/>
  <dc:title>Slide 1</dc:title>
</cp:coreProperties>
</file>